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18A-FC63-4A19-8D95-1BFC27EC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1E5A-544E-4C28-AA0D-D9504D7D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5D1B-B488-4B0F-BDE4-2C81BAC8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5BE-F61C-4EAB-98A9-F34B6EED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E0A-290B-4572-B8E9-DB533603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4857-A14B-4D3B-8B24-28A76755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36A8-2878-4D69-827C-EEF5F2C8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1CB2-8F5B-4D30-97F7-EFDE84E6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615-0513-45A4-AA0C-5BAEA4EA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513-8412-4A82-8233-28BF5894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CFC-7891-4FBC-B827-EEED9F43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D17-AFA2-469F-990B-E4FF8272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E7DD-B769-4DA8-AE1E-410711475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ather -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vectional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1628640"/>
            <a:ext cx="889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vectional precipi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ccurs when the ground is subject to very intense he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air above the grou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o, and r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the air rises, it 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  <a:ea typeface="Arial"/>
              </a:rPr>
              <a:t>cool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the water vapour held within now conde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condensed vapour form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lou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n a very high column (sometimes leads to hai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ntually, the moisture in these clouds gets heavy enough to fal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vectional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628640"/>
            <a:ext cx="8893080" cy="70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actually grabs the water drops and drags them downwar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results in 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  <a:ea typeface="Arial"/>
              </a:rPr>
              <a:t>cool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ir descending (those nasty drafts and gusts of wind you feel just before a stor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ain eventually cools the ground and stops the cy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us stuff from convectional precipi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il (formed when moisture in the cloud reaches high enough altitude);  Thunderstorms;  Torna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onvectional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936720" y="-387360"/>
            <a:ext cx="10080720" cy="756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6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clonic (Frontal)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064360" cy="37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6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clonic (Frontal)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628640"/>
            <a:ext cx="88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Cyclonic precipit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wh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r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col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nts col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is called a “cyclonic storm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 often occurs under the Polar Front jet str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rotation of the earth causes the air to spin in a counter-clockwise direction (giving us our common image of a “spinning” cyclo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6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clonic (Frontal)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5259600" cy="549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6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clonic (Frontal)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628640"/>
            <a:ext cx="88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Cyclonic precipit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two fro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  <a:ea typeface="Arial"/>
              </a:rPr>
              <a:t>Cold fro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the leading edge of the cold air pushing into the warm air mas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Warm fro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the leading edge of the warm air mass on the other sid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th of these fronts create precipi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2200" y="4986360"/>
            <a:ext cx="815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 fact: most of the precipitation we receive in Ontario is cycl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300720" cy="3216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479736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AL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ir goes up, it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ools dow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ir cools down, water (vapour) condenses more than it evapora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5440" y="1407960"/>
            <a:ext cx="619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can rise for a number of reas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3357720"/>
            <a:ext cx="707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– It rises because it has absorbed heat from the earth’s surface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vection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4365720"/>
            <a:ext cx="686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– It rises because a bulldozer mass of cold air is pushing it up (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cycl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34936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– It tries to cross an area of high elevation (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orograph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reli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59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ographic (Relief)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5614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56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ographic (Relief)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628640"/>
            <a:ext cx="88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create a barrier, and this barrier creates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orographic precipi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ir rises, it 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coo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air mass itself expands, while the particles squish together and contract (not able to hold as much moistu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densation occurs, and water droplets are released into the 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se are still light enough to be carried by the ai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6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ographic (Relief)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62864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more vapour condenses, water droplets become larger and heavi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y are too heavy to remain aloft, they fall 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95640" y="3141720"/>
            <a:ext cx="4373280" cy="32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6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ographic (Relief)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628640"/>
            <a:ext cx="88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isture content of air is measur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tive Humid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just a quick and easy way of say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Amount of moisture in the air / moisture capacity) X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6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ographic (Relief)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61640" cy="4413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989800" y="608796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extbook p.1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vectional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9800" y="608796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extbook p.1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899480" cy="474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23:21:42Z</dcterms:created>
  <dc:creator>Stefan</dc:creator>
  <dc:description/>
  <dc:language>en-US</dc:language>
  <cp:lastModifiedBy>OCDSB User</cp:lastModifiedBy>
  <dcterms:modified xsi:type="dcterms:W3CDTF">2013-05-02T19:02:13Z</dcterms:modified>
  <cp:revision>112</cp:revision>
  <dc:subject/>
  <dc:title>Weather - Precipitation</dc:title>
</cp:coreProperties>
</file>